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A93-D3C9-4F21-A0D2-3DDD7156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7C1-5D55-4918-82E9-E5F97AB4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EE0-D58E-4C26-B158-2B1A5789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0F9-DDB0-4BD7-A508-988F04BE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185F-E340-4812-A480-A01EFDAB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463-DB76-401B-BB3C-16F9218F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4D1-9297-4EDF-A6A1-5DF1014E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DE5-57CE-4955-B3EA-8117E35C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5EA-DA31-49E1-9911-60B99BA3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084-9AC7-4F6B-A187-E4B3BBFA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97B-7E2F-4776-8094-01136117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A94-E0AA-47CC-B83E-AB582D62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31C8-4AAF-485A-AE88-1186CCBFD4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hapter 16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AGONY OF 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160" y="4572000"/>
            <a:ext cx="7924680" cy="175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00000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65800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DIVI7233TB1601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77532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76" name="Picture 7" descr="DIVI7233327"/>
          <p:cNvPicPr/>
          <p:nvPr/>
        </p:nvPicPr>
        <p:blipFill>
          <a:blip r:embed="rId2"/>
          <a:stretch/>
        </p:blipFill>
        <p:spPr>
          <a:xfrm>
            <a:off x="533520" y="1752480"/>
            <a:ext cx="8076960" cy="479592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Impeachment Crisi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 obstructs Congressional 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limits Presidential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ure of Office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, 1868: Congress impe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ate refuses to convict Joh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cal Republicans seen as subversive of Constitution, lose public suppo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Reconstructing Southern Society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contending interests in Sou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ern whites seek to keep newly freed blacks inf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ern whites seek to make money or to "civilize" the region – Carpetbaggers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s seek e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organizing Land and Labor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56390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-slaves wish to work their own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government sometimes grant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reverts to white owners under Joh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owners try to impose contract lab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s insist on sharecro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cropping soon becomes peon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Black Codes: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 New Name for Slavery?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14440"/>
            <a:ext cx="8229600" cy="37814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 Codes designed to return blacks to quasi-sla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s overturned by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ce and discrimination continued on a large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publican Rule in the South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56386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7: Southern Republican party orga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people want government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farmers want protection from cred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s form majority of party, want social and political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coalition un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break up when whites le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Claiming Public and Private Right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8229600" cy="38368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d slaves want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treat from 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ormous problems 1868–187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t’s weak principles contribute to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04" name="Content Placeholder 3" descr="18ug_header_sm.jpeg"/>
          <p:cNvPicPr/>
          <p:nvPr/>
        </p:nvPicPr>
        <p:blipFill>
          <a:blip r:embed="rId2"/>
          <a:srcRect l="-6438" t="0" r="-6438" b="0"/>
          <a:stretch/>
        </p:blipFill>
        <p:spPr>
          <a:xfrm>
            <a:off x="457200" y="990720"/>
            <a:ext cx="8229600" cy="411480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President Versus Congres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rth split on reconstructing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 House seeks speedy reconstruction with minimum changes in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seeks slower reconstruction, demands protection for freed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ise of the Money Ques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ic of 1873 raises “the money question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tors seek inflationary monetary policy by continuing circulation of "greenbacks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ors, intellectuals support hard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5: government commits to hard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6: Greenback party formed, makes gains in congressional r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Election of 1868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10" name="Picture 8" descr="DIVI7233TB1602"/>
          <p:cNvPicPr/>
          <p:nvPr/>
        </p:nvPicPr>
        <p:blipFill>
          <a:blip r:embed="rId2"/>
          <a:srcRect l="0" t="16466" r="0" b="0"/>
          <a:stretch/>
        </p:blipFill>
        <p:spPr>
          <a:xfrm>
            <a:off x="304920" y="2362320"/>
            <a:ext cx="8610480" cy="309240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Final Efforts of 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9: Fifteenth Amendment pa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enfranchised Northern bl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’s rights group were upset that they were not granted the 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support for black citizenship wa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A Reign of Terror Against Black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60962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 societies used terror tactics to keep blacks out of the political process and near  insurrections against state gover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0s: Congress tries to suppress Ku Klux Klan, other Southern terrorist grou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876 Republicans control only South Carolina, Louisiana, and Flo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support for military action w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Election of 1872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18" name="Picture 4" descr="DIVI7233TB1603"/>
          <p:cNvPicPr/>
          <p:nvPr/>
        </p:nvPicPr>
        <p:blipFill>
          <a:blip r:embed="rId2"/>
          <a:srcRect l="0" t="13027" r="0" b="0"/>
          <a:stretch/>
        </p:blipFill>
        <p:spPr>
          <a:xfrm>
            <a:off x="457200" y="1905120"/>
            <a:ext cx="8305920" cy="406872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union and the New South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nd South reconcile after 18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of  reconcil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Americans stripped of political g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 business interests favored over small far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Compromise of 1877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of 1876 dispu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Congressional commission gives disputed vote to Rutherford B. Ha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Democrats accept on two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antee of federal aid to the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all remaining federal tro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yes’ agreement ends 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IVI7233338"/>
          <p:cNvPicPr/>
          <p:nvPr/>
        </p:nvPicPr>
        <p:blipFill>
          <a:blip r:embed="rId2"/>
          <a:stretch/>
        </p:blipFill>
        <p:spPr>
          <a:xfrm>
            <a:off x="2133720" y="762120"/>
            <a:ext cx="4860720" cy="533376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Rise of Jim Crow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eemer Democrats systematically exclude black vot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m Crow laws legalize segregation and restrict black civil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910 the process was 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rth and the federal government did little or nothing to preven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Rise of Jim Crow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56390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nching—187 blacks lynched yearly 1889–18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Supreme Court decisions gut Reconstruction Amendments 1875–18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ssy v. Ferguson (18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“separate but equ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union” accomplished as North tacitly acquiesces in Southern discr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Wartime 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announces lenient policy in 186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resents Lincoln’s effort to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men seek to condition readmission to Union on black suff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mistrusts white Souther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ndrew Johnson at the Helm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533412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initially support Southern Democrat Johnson as enemy of planter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, Republicans split on 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 instructs Southern conven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are secession il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diate Confederate deb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fy the Thirteenth Amend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57" name="Content Placeholder 3" descr="17aj_header_sm.jpeg"/>
          <p:cNvPicPr/>
          <p:nvPr/>
        </p:nvPicPr>
        <p:blipFill>
          <a:blip r:embed="rId2"/>
          <a:srcRect l="-6438" t="0" r="-6438" b="0"/>
          <a:stretch/>
        </p:blipFill>
        <p:spPr>
          <a:xfrm>
            <a:off x="380880" y="1371600"/>
            <a:ext cx="8229600" cy="411480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ndrew Johnson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t the Helm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conventions reluctantly carry out Johnson’s 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tions pass “Black Cod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 approves conventions’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condemns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ongress Takes the Initiativ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8229600" cy="39970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insist on black suff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expect to get black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ological commitment to equal rights, even if some did not believe in racial equa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that South would fall under great planter control without black suff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ongress Takes the Initiativ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56390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6: Johnson vetoes two bi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 of Freedmen’s Bur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rights bill to overturn Black 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pass Fourteenth Amend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’s National Union party runs against Republican congressmen in e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s of 1866 strengthen Republ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ongressional Reconstruction Plan Enacted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under military rule until black suffrage fully sec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ption:  black suffrage sufficient to empower freedmen to protect themsel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3:10:20Z</dcterms:created>
  <dc:creator>CMU</dc:creator>
  <dc:description/>
  <cp:keywords/>
  <dc:language>en-US</dc:language>
  <cp:lastModifiedBy>Matthew Myers</cp:lastModifiedBy>
  <cp:lastPrinted>2012-05-30T00:40:02Z</cp:lastPrinted>
  <dcterms:modified xsi:type="dcterms:W3CDTF">2011-11-30T03:28:23Z</dcterms:modified>
  <cp:revision>12</cp:revision>
  <dc:subject/>
  <dc:title>THE AGONY OF RECONSTRUCTION</dc:title>
</cp:coreProperties>
</file>